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9E5-BE64-4E3B-9A5A-3B3E196C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BDF-2C09-4458-A47B-201DDB39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2299-2DE2-4BFD-982C-204A10D7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E775-2BC6-451C-8081-0D63BD26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9CC-4701-4A01-8BD6-DE574123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B01-801E-4ADD-A886-68E69791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C800-4EB2-40FA-8C03-41464425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9D40-4072-443A-A64C-0CDB0092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889-D4F2-4B66-9C7A-4ECA6C11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6D8-F89A-4A4B-BC1D-6C4C83E2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C80-F17D-48E7-9F77-32D85972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940-2FCC-4201-9899-6B1EFE15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FE2E-E870-447F-8984-8653ABCF2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ooz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you sleep better with or without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find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Results w/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905120"/>
          <a:ext cx="7467480" cy="4343040"/>
        </p:xfrm>
        <a:graphic>
          <a:graphicData uri="http://schemas.openxmlformats.org/drawingml/2006/table">
            <a:tbl>
              <a:tblPr/>
              <a:tblGrid>
                <a:gridCol w="1795320"/>
                <a:gridCol w="2611440"/>
                <a:gridCol w="3060720"/>
              </a:tblGrid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long w/ mu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long w/out mu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in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in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ath 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 Min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H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y 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Min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Min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dy 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ldn’t sle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Min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People Sleep Better With or Without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leeping with music help you sleep or just keep you up all 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om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omnia is a sleeping disorder that keeps you up when you are trying to go to sle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omnia usually affects people over the age of 65 but it also can happen at a young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ix 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Stereo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B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night go to bed at 10:00 p.m. and sleep with soft music see how long it takes to fall asle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night I will go to sleep at the same time but I will not listen to any music and see how long it takes me to fall asle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=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= Time to fall asl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= Go to bed at same time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ound out that I fall asleep faster with music than without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only took me 5 minutes to fall asleep with music but, took me 15 minutes to fall asleep without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4648320"/>
            <a:ext cx="594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y results I will fall asleep faster with music than with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go home and try my little experiment and see which helps you fall asleep faster with or without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can do it to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you need to do is get your own b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some music to listen to listen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see how long it takes to fall asl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0:02:15Z</dcterms:created>
  <dc:creator>USD376</dc:creator>
  <dc:description/>
  <dc:language>en-US</dc:language>
  <cp:lastModifiedBy>STERLING  USD376</cp:lastModifiedBy>
  <cp:lastPrinted>2010-04-30T13:59:35Z</cp:lastPrinted>
  <dcterms:modified xsi:type="dcterms:W3CDTF">2010-05-03T14:24:07Z</dcterms:modified>
  <cp:revision>10</cp:revision>
  <dc:subject/>
  <dc:title>Do People Sleep Better With or Without Music</dc:title>
</cp:coreProperties>
</file>